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40A-B6D4-42BE-A0BC-1A35E234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EBD-1099-4F1B-98A9-698507E7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35F-9111-43C2-914F-22EE91C5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BD9-B33B-433C-807E-48A23926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199-4F74-42FB-A455-1B02A700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CB1-6777-40B7-8122-4D946524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E7D-F0F5-40FC-9D4D-78AD685D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FDC-EBA4-489B-A5B2-C4595855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491-7A66-4B58-99ED-9ADF668A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0FC-FEDD-4C5B-BC60-9B12070E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140-2B87-4BBC-8410-CD7D2098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61E-1195-47BF-A114-EEF79DDB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645F-1A89-4E9B-9673-87D8F5EDA9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3"/>
          <p:cNvSpPr/>
          <p:nvPr/>
        </p:nvSpPr>
        <p:spPr>
          <a:xfrm>
            <a:off x="4643280" y="2357280"/>
            <a:ext cx="39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ekcja… Niczego so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285840" y="785880"/>
            <a:ext cx="5113440" cy="543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DEE\Pulpit\muzeum\lekcje z etno\logo_muzeumgl.png"/>
          <p:cNvPicPr/>
          <p:nvPr/>
        </p:nvPicPr>
        <p:blipFill>
          <a:blip r:embed="rId2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44" name="pole tekstowe 7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70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571680" y="3643200"/>
            <a:ext cx="8312040" cy="2705040"/>
          </a:xfrm>
          <a:prstGeom prst="rect">
            <a:avLst/>
          </a:prstGeom>
          <a:ln w="0">
            <a:noFill/>
          </a:ln>
        </p:spPr>
      </p:pic>
      <p:sp>
        <p:nvSpPr>
          <p:cNvPr id="72" name="pole tekstowe 4"/>
          <p:cNvSpPr/>
          <p:nvPr/>
        </p:nvSpPr>
        <p:spPr>
          <a:xfrm>
            <a:off x="642960" y="121428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rochę histo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1945 roku, na zgliszczach niemieckiego Gleiwitz, powstała Politechnika Śląska - uczelnia, która stała się najbardziej znaczącą instytucją dla rozwoju miasta i jednym z głównych technicznych ośrodków naukowo-badawczych w kraju. W marcu 1968 roku, młodzież gliwicka, tak jak studenci w wielu innych ośrodkach akademickich w kraju, solidaryzowała się z protestującymi studentami uczelni warszawsk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57160" y="1193040"/>
            <a:ext cx="7383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ytania do przemyśle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1. Dlaczego Politechnikę Śląską utworzono w Gliwicac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2. Co działo się w Polsce w marcu 1968 roku - przeciwko czemu/komu protestowali studenc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4. Jakie znaczenie ma obecnie dla Gliwic Politechnika Śląsk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714240" y="3714840"/>
            <a:ext cx="779652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78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5"/>
          <p:cNvSpPr/>
          <p:nvPr/>
        </p:nvSpPr>
        <p:spPr>
          <a:xfrm>
            <a:off x="4500720" y="4572000"/>
            <a:ext cx="4000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ezentacja przygotowana w oparciu o antologię  „Niczego sobie. Komiksy o mieście Gliwice”. Wydawnictwo: Muzeum w Gliwic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prac. prezentacji E. Chudy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46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DEE\Pulpit\komiksy Niczego sobie\Marcowe ulice\Strona 1.jpg"/>
          <p:cNvPicPr/>
          <p:nvPr/>
        </p:nvPicPr>
        <p:blipFill>
          <a:blip r:embed="rId2"/>
          <a:stretch/>
        </p:blipFill>
        <p:spPr>
          <a:xfrm>
            <a:off x="942840" y="1143000"/>
            <a:ext cx="56293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49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DEE\Pulpit\komiksy Niczego sobie\Marcowe ulice\Strona 2.jpg"/>
          <p:cNvPicPr/>
          <p:nvPr/>
        </p:nvPicPr>
        <p:blipFill>
          <a:blip r:embed="rId2"/>
          <a:stretch/>
        </p:blipFill>
        <p:spPr>
          <a:xfrm>
            <a:off x="785880" y="1000080"/>
            <a:ext cx="585792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Documents and Settings\DEE\Pulpit\komiksy Niczego sobie\Marcowe ulice\Strona 3.jpg"/>
          <p:cNvPicPr/>
          <p:nvPr/>
        </p:nvPicPr>
        <p:blipFill>
          <a:blip r:embed="rId2"/>
          <a:stretch/>
        </p:blipFill>
        <p:spPr>
          <a:xfrm>
            <a:off x="642960" y="1071720"/>
            <a:ext cx="56437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55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DEE\Pulpit\komiksy Niczego sobie\Marcowe ulice\Strona 4.jpg"/>
          <p:cNvPicPr/>
          <p:nvPr/>
        </p:nvPicPr>
        <p:blipFill>
          <a:blip r:embed="rId2"/>
          <a:stretch/>
        </p:blipFill>
        <p:spPr>
          <a:xfrm>
            <a:off x="785880" y="1071720"/>
            <a:ext cx="547668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58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Documents and Settings\DEE\Pulpit\komiksy Niczego sobie\Marcowe ulice\Strona 5.jpg"/>
          <p:cNvPicPr/>
          <p:nvPr/>
        </p:nvPicPr>
        <p:blipFill>
          <a:blip r:embed="rId2"/>
          <a:stretch/>
        </p:blipFill>
        <p:spPr>
          <a:xfrm>
            <a:off x="1000080" y="1143000"/>
            <a:ext cx="52866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DEE\Pulpit\komiksy Niczego sobie\Marcowe ulice\Strona 6.jpg"/>
          <p:cNvPicPr/>
          <p:nvPr/>
        </p:nvPicPr>
        <p:blipFill>
          <a:blip r:embed="rId2"/>
          <a:stretch/>
        </p:blipFill>
        <p:spPr>
          <a:xfrm>
            <a:off x="782640" y="1071720"/>
            <a:ext cx="564660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DEE\Pulpit\komiksy Niczego sobie\Marcowe ulice\Strona 7.jpg"/>
          <p:cNvPicPr/>
          <p:nvPr/>
        </p:nvPicPr>
        <p:blipFill>
          <a:blip r:embed="rId2"/>
          <a:stretch/>
        </p:blipFill>
        <p:spPr>
          <a:xfrm>
            <a:off x="1000080" y="1069920"/>
            <a:ext cx="557208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Documents and Settings\DEE\Pulpit\komiksy Niczego sobie\Marcowe ulice\Strona 8.jpg"/>
          <p:cNvPicPr/>
          <p:nvPr/>
        </p:nvPicPr>
        <p:blipFill>
          <a:blip r:embed="rId2"/>
          <a:stretch/>
        </p:blipFill>
        <p:spPr>
          <a:xfrm>
            <a:off x="857160" y="1143000"/>
            <a:ext cx="55720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18:18:40Z</dcterms:created>
  <dc:creator>DEE</dc:creator>
  <dc:description/>
  <dc:language>en-US</dc:language>
  <cp:lastModifiedBy>DEE</cp:lastModifiedBy>
  <dcterms:modified xsi:type="dcterms:W3CDTF">2012-08-11T09:37:38Z</dcterms:modified>
  <cp:revision>10</cp:revision>
  <dc:subject/>
  <dc:title>Slajd 1</dc:title>
</cp:coreProperties>
</file>