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42A-A5EA-4240-BDB0-EF39193A99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CCF-E2C7-4A6A-BE69-12108AAD916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106-5BCE-4F60-AE00-F9B01C81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DC4-2DBA-42D2-A9E2-6B5464B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235-F8E1-42E7-9218-D87C141F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8ED-A325-4F4C-9FD6-E6C8035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B8F-45A3-4E5F-AFE6-2E6A15EE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341-56EF-4258-948B-DA4EF43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525-DC6E-4254-83D6-70186FD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3F8-1ACC-4D47-8699-B4ED760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F7F-CDBE-4ED5-B654-AE16887A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A7F-656A-4700-9152-801726D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E85-9FA5-4C81-B3D1-94F549E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9B9-1C79-4BD5-8FA7-9898F12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E38-607A-4081-BCC7-05D979DBF9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3"/>
          <p:cNvSpPr/>
          <p:nvPr/>
        </p:nvSpPr>
        <p:spPr>
          <a:xfrm>
            <a:off x="4643280" y="235728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ekcja… Niczego so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285840" y="785880"/>
            <a:ext cx="5113440" cy="543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DEE\Pulpit\muzeum\lekcje z etno\logo_muzeumgl.png"/>
          <p:cNvPicPr/>
          <p:nvPr/>
        </p:nvPicPr>
        <p:blipFill>
          <a:blip r:embed="rId2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7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DEE\Pulpit\komiksy Niczego sobie\Mansfeld\mansfeld-08.jpg"/>
          <p:cNvPicPr/>
          <p:nvPr/>
        </p:nvPicPr>
        <p:blipFill>
          <a:blip r:embed="rId2"/>
          <a:stretch/>
        </p:blipFill>
        <p:spPr>
          <a:xfrm>
            <a:off x="1428840" y="1055520"/>
            <a:ext cx="5500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DEE\Pulpit\komiksy Niczego sobie\Mansfeld\mansfeld-09.jpg"/>
          <p:cNvPicPr/>
          <p:nvPr/>
        </p:nvPicPr>
        <p:blipFill>
          <a:blip r:embed="rId2"/>
          <a:stretch/>
        </p:blipFill>
        <p:spPr>
          <a:xfrm>
            <a:off x="1143000" y="1046160"/>
            <a:ext cx="53578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DEE\Pulpit\komiksy Niczego sobie\Mansfeld\mansfeld-10.jpg"/>
          <p:cNvPicPr/>
          <p:nvPr/>
        </p:nvPicPr>
        <p:blipFill>
          <a:blip r:embed="rId2"/>
          <a:stretch/>
        </p:blipFill>
        <p:spPr>
          <a:xfrm>
            <a:off x="928800" y="1143000"/>
            <a:ext cx="55674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3"/>
          <p:cNvSpPr/>
          <p:nvPr/>
        </p:nvSpPr>
        <p:spPr>
          <a:xfrm>
            <a:off x="357120" y="1500120"/>
            <a:ext cx="564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ochę hist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atem 1626 roku katolickie Gliwice zostały zaatakowane przez protestanckie wojska Ernesta von Mansfelda. Mimo ostrzału artyleryjskiego ze strony przeważających sił nieprzyjaciela, mieszkańcy stawili skuteczny opór i miasto nie zostało zdobyte. Ówcześni kronikarze podkreślali przede wszystkim bohaterską postawę kobiet i ich kluczową rolę w ocaleniu miasta. Do obrony obok mężczyzn stanęły niewiasty, które z wysokości murów miejskich wylewały na napastników wrzącą wodę i gotowaną kaszę jaglaną. Skuteczna obrona miasta przez mieszczan spotkała się z uznaniem cesarza Ferdynanda II Habsburga. Swoją wdzięczność wyraził on 14 sierpnia 1629 roku w Wiedniu, nadając Gliwicom nowy, upiększony her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357960" y="1143000"/>
            <a:ext cx="20574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85840" y="357120"/>
            <a:ext cx="514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Kilka kwestii do omówieni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czyli o kuchni, w której drzemie si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2614680" cy="6377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642960" y="1857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bohater musi  walczyć miecz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to znaczy być bohate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haterskie kobiety w his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 mieszczanom udało się obronić miasto – jakie znaczenie ma współpra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warto wykraczać poza konwencjonalnie przypisane ro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8760" y="904680"/>
            <a:ext cx="77403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ytania dodat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. Co to była Wojna Trzydziestoletn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. Dlaczego Gliwice zostały zaatakowane przez duńskie wojsk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3. Ile jest prawdy w legendzie o ocaleniu miasta przez kobiet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4. Czy o historii można mówić w żartobliwy sposó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86184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ole tekstowe 5"/>
          <p:cNvSpPr/>
          <p:nvPr/>
        </p:nvSpPr>
        <p:spPr>
          <a:xfrm>
            <a:off x="4500720" y="4572000"/>
            <a:ext cx="4000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ezentacja przygotowana w oparciu o antologię  „Niczego sobie. Komiksy o mieście Gliwice”. Wydawnictwo: Muzeum w Gliwic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prac. prezentacji E. Chudy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3" name="pole tekstowe 7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928960" y="3286080"/>
            <a:ext cx="6215040" cy="2963880"/>
          </a:xfrm>
          <a:prstGeom prst="rect">
            <a:avLst/>
          </a:prstGeom>
          <a:ln w="0">
            <a:noFill/>
          </a:ln>
        </p:spPr>
      </p:pic>
      <p:sp>
        <p:nvSpPr>
          <p:cNvPr id="55" name="Prostokąt 5"/>
          <p:cNvSpPr/>
          <p:nvPr/>
        </p:nvSpPr>
        <p:spPr>
          <a:xfrm>
            <a:off x="500040" y="1500120"/>
            <a:ext cx="742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llada o tym, jak zły Mansfeld swój apetyt zaspokoi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6"/>
          <p:cNvSpPr/>
          <p:nvPr/>
        </p:nvSpPr>
        <p:spPr>
          <a:xfrm>
            <a:off x="428760" y="328608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cenariusz i rysunki Przemysław Su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DEE\Pulpit\komiksy Niczego sobie\Mansfeld\mansfeld-01.jpg"/>
          <p:cNvPicPr/>
          <p:nvPr/>
        </p:nvPicPr>
        <p:blipFill>
          <a:blip r:embed="rId2"/>
          <a:stretch/>
        </p:blipFill>
        <p:spPr>
          <a:xfrm>
            <a:off x="1500120" y="1071720"/>
            <a:ext cx="5214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DEE\Pulpit\komiksy Niczego sobie\Mansfeld\mansfeld-02.jpg"/>
          <p:cNvPicPr/>
          <p:nvPr/>
        </p:nvPicPr>
        <p:blipFill>
          <a:blip r:embed="rId2"/>
          <a:stretch/>
        </p:blipFill>
        <p:spPr>
          <a:xfrm>
            <a:off x="1571760" y="1071720"/>
            <a:ext cx="5143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Documents and Settings\DEE\Pulpit\komiksy Niczego sobie\Mansfeld\mansfeld-03.jpg"/>
          <p:cNvPicPr/>
          <p:nvPr/>
        </p:nvPicPr>
        <p:blipFill>
          <a:blip r:embed="rId2"/>
          <a:stretch/>
        </p:blipFill>
        <p:spPr>
          <a:xfrm>
            <a:off x="1071720" y="1066680"/>
            <a:ext cx="56433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Documents and Settings\DEE\Pulpit\komiksy Niczego sobie\Mansfeld\mansfeld-04.jpg"/>
          <p:cNvPicPr/>
          <p:nvPr/>
        </p:nvPicPr>
        <p:blipFill>
          <a:blip r:embed="rId2"/>
          <a:stretch/>
        </p:blipFill>
        <p:spPr>
          <a:xfrm>
            <a:off x="1071720" y="1143000"/>
            <a:ext cx="57355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DEE\Pulpit\komiksy Niczego sobie\Mansfeld\mansfeld-05.jpg"/>
          <p:cNvPicPr/>
          <p:nvPr/>
        </p:nvPicPr>
        <p:blipFill>
          <a:blip r:embed="rId2"/>
          <a:stretch/>
        </p:blipFill>
        <p:spPr>
          <a:xfrm>
            <a:off x="1214280" y="1071720"/>
            <a:ext cx="53578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3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DEE\Pulpit\komiksy Niczego sobie\Mansfeld\mansfeld-06.jpg"/>
          <p:cNvPicPr/>
          <p:nvPr/>
        </p:nvPicPr>
        <p:blipFill>
          <a:blip r:embed="rId2"/>
          <a:stretch/>
        </p:blipFill>
        <p:spPr>
          <a:xfrm>
            <a:off x="1214280" y="1071720"/>
            <a:ext cx="5210280" cy="56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DEE\Pulpit\muzeum\lekcje z etno\logo_muzeumgl.png"/>
          <p:cNvPicPr/>
          <p:nvPr/>
        </p:nvPicPr>
        <p:blipFill>
          <a:blip r:embed="rId1"/>
          <a:stretch/>
        </p:blipFill>
        <p:spPr>
          <a:xfrm>
            <a:off x="-142920" y="0"/>
            <a:ext cx="8072640" cy="101268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"/>
          <p:cNvSpPr/>
          <p:nvPr/>
        </p:nvSpPr>
        <p:spPr>
          <a:xfrm>
            <a:off x="7072200" y="64292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ww.muzeum.gliwice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DEE\Pulpit\komiksy Niczego sobie\Mansfeld\mansfeld-07.jpg"/>
          <p:cNvPicPr/>
          <p:nvPr/>
        </p:nvPicPr>
        <p:blipFill>
          <a:blip r:embed="rId2"/>
          <a:stretch/>
        </p:blipFill>
        <p:spPr>
          <a:xfrm>
            <a:off x="1357200" y="1000080"/>
            <a:ext cx="5288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8:18:40Z</dcterms:created>
  <dc:creator>DEE</dc:creator>
  <dc:description/>
  <dc:language>en-US</dc:language>
  <cp:lastModifiedBy>echudyba</cp:lastModifiedBy>
  <dcterms:modified xsi:type="dcterms:W3CDTF">2012-08-31T08:37:25Z</dcterms:modified>
  <cp:revision>11</cp:revision>
  <dc:subject/>
  <dc:title>Slajd 1</dc:title>
</cp:coreProperties>
</file>